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5CCD-B1AF-4AB9-91D7-79C7695A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6E38-8D50-40EE-BBFE-6F80B759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D6EE-ABE3-474E-AF38-7EC11BAD9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D39B-6530-4857-ABB3-94DBEA947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ACF3-A8C2-4D34-80F7-7A4F5786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9CC1-BE9E-4A14-B812-957CE2C8A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76B6-9161-4A51-98F7-6894B459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0F02-6B47-4283-B2F5-D0F5057A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84CA-2CC6-45CA-BB7B-245726B4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440D-0F47-4622-B344-8DED013B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1300-4142-491E-9501-C96D3407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DA95-B286-4742-A8B2-ED601F71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8059D-1DF8-469C-80F8-29DB743055F5}" type="slidenum">
              <a:rPr b="0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10"/>
          <p:cNvSpPr/>
          <p:nvPr/>
        </p:nvSpPr>
        <p:spPr>
          <a:xfrm>
            <a:off x="409680" y="1141560"/>
            <a:ext cx="26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编号：</a:t>
            </a: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A1-01046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2" name="文本框 8"/>
          <p:cNvSpPr/>
          <p:nvPr/>
        </p:nvSpPr>
        <p:spPr>
          <a:xfrm>
            <a:off x="1560600" y="2230560"/>
            <a:ext cx="9213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G XR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文旅</a:t>
            </a: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-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利用</a:t>
            </a:r>
            <a:r>
              <a:rPr b="1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G</a:t>
            </a: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跨媒体平台技术助力文旅产业革新</a:t>
            </a:r>
            <a:endParaRPr b="0" lang="en-US" sz="4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文本框 14"/>
          <p:cNvSpPr/>
          <p:nvPr/>
        </p:nvSpPr>
        <p:spPr>
          <a:xfrm>
            <a:off x="2557440" y="4475160"/>
            <a:ext cx="722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林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*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康、王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*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宇、张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*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朱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*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、唐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4" name="文本框 1"/>
          <p:cNvSpPr/>
          <p:nvPr/>
        </p:nvSpPr>
        <p:spPr>
          <a:xfrm>
            <a:off x="3522600" y="5302080"/>
            <a:ext cx="30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赛学校：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****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大学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5" name="文本框 7"/>
          <p:cNvSpPr/>
          <p:nvPr/>
        </p:nvSpPr>
        <p:spPr>
          <a:xfrm>
            <a:off x="6461280" y="5300640"/>
            <a:ext cx="28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指导教师：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*****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教授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文本框 14"/>
          <p:cNvSpPr/>
          <p:nvPr/>
        </p:nvSpPr>
        <p:spPr>
          <a:xfrm>
            <a:off x="438480" y="192240"/>
            <a:ext cx="157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22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7" name="文本框 15"/>
          <p:cNvSpPr/>
          <p:nvPr/>
        </p:nvSpPr>
        <p:spPr>
          <a:xfrm>
            <a:off x="2562840" y="328680"/>
            <a:ext cx="176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十届全国大学生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媒体科技作品及创意竞赛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48" name="图片 10" descr=""/>
          <p:cNvPicPr/>
          <p:nvPr/>
        </p:nvPicPr>
        <p:blipFill>
          <a:blip r:embed="rId1"/>
          <a:stretch/>
        </p:blipFill>
        <p:spPr>
          <a:xfrm>
            <a:off x="1136520" y="6396120"/>
            <a:ext cx="360360" cy="34776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11"/>
          <p:cNvSpPr/>
          <p:nvPr/>
        </p:nvSpPr>
        <p:spPr>
          <a:xfrm>
            <a:off x="1482120" y="6381720"/>
            <a:ext cx="18982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仿宋"/>
                <a:ea typeface="仿宋"/>
              </a:rPr>
              <a:t>中 国 人 工 智 能 学 会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inese Association for Artificial Intelligence</a:t>
            </a:r>
            <a:endParaRPr b="0" lang="en-US" sz="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" name="文本框 1"/>
          <p:cNvSpPr/>
          <p:nvPr/>
        </p:nvSpPr>
        <p:spPr>
          <a:xfrm>
            <a:off x="334080" y="643716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华文楷体"/>
                <a:ea typeface="华文楷体"/>
              </a:rPr>
              <a:t>主办单位：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文本框 10"/>
          <p:cNvSpPr/>
          <p:nvPr/>
        </p:nvSpPr>
        <p:spPr>
          <a:xfrm>
            <a:off x="9531360" y="6283440"/>
            <a:ext cx="25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编号：</a:t>
            </a: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A1-01046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文本框 14"/>
          <p:cNvSpPr/>
          <p:nvPr/>
        </p:nvSpPr>
        <p:spPr>
          <a:xfrm>
            <a:off x="438480" y="192240"/>
            <a:ext cx="157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22</a:t>
            </a:r>
            <a:endParaRPr b="0" lang="en-US" sz="4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3" name="文本框 15"/>
          <p:cNvSpPr/>
          <p:nvPr/>
        </p:nvSpPr>
        <p:spPr>
          <a:xfrm>
            <a:off x="2562840" y="328680"/>
            <a:ext cx="176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十届全国大学生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数字媒体科技作品及创意竞赛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pic>
        <p:nvPicPr>
          <p:cNvPr id="54" name="图片 10" descr=""/>
          <p:cNvPicPr/>
          <p:nvPr/>
        </p:nvPicPr>
        <p:blipFill>
          <a:blip r:embed="rId1"/>
          <a:stretch/>
        </p:blipFill>
        <p:spPr>
          <a:xfrm>
            <a:off x="1136520" y="6396120"/>
            <a:ext cx="360360" cy="34776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11"/>
          <p:cNvSpPr/>
          <p:nvPr/>
        </p:nvSpPr>
        <p:spPr>
          <a:xfrm>
            <a:off x="1482120" y="6381720"/>
            <a:ext cx="189828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仿宋"/>
                <a:ea typeface="仿宋"/>
              </a:rPr>
              <a:t>中 国 人 工 智 能 学 会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inese Association for Artificial Intelligence</a:t>
            </a:r>
            <a:endParaRPr b="0" lang="en-US" sz="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6" name="文本框 8"/>
          <p:cNvSpPr/>
          <p:nvPr/>
        </p:nvSpPr>
        <p:spPr>
          <a:xfrm>
            <a:off x="334080" y="643716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华文楷体"/>
                <a:ea typeface="华文楷体"/>
              </a:rPr>
              <a:t>主办单位：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文本框 8"/>
          <p:cNvSpPr/>
          <p:nvPr/>
        </p:nvSpPr>
        <p:spPr>
          <a:xfrm>
            <a:off x="4394160" y="2031840"/>
            <a:ext cx="355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  谢</a:t>
            </a:r>
            <a:endParaRPr b="0" lang="en-US" sz="9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文本框 3"/>
          <p:cNvSpPr/>
          <p:nvPr/>
        </p:nvSpPr>
        <p:spPr>
          <a:xfrm>
            <a:off x="5014080" y="5237280"/>
            <a:ext cx="231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00"/>
                </a:solidFill>
                <a:latin typeface="微软雅黑"/>
                <a:ea typeface="微软雅黑"/>
              </a:rPr>
              <a:t>竞赛官网：</a:t>
            </a:r>
            <a:r>
              <a:rPr b="1" lang="en-US" sz="1400" spc="-1" strike="noStrike">
                <a:solidFill>
                  <a:srgbClr val="ffff00"/>
                </a:solidFill>
                <a:latin typeface="微软雅黑"/>
                <a:ea typeface="微软雅黑"/>
              </a:rPr>
              <a:t>http://mit.caai.cn</a:t>
            </a:r>
            <a:endParaRPr b="0" lang="en-US" sz="1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9" name="文本框 4"/>
          <p:cNvSpPr/>
          <p:nvPr/>
        </p:nvSpPr>
        <p:spPr>
          <a:xfrm>
            <a:off x="5871960" y="572760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人工智能学会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0" name="文本框 5"/>
          <p:cNvSpPr/>
          <p:nvPr/>
        </p:nvSpPr>
        <p:spPr>
          <a:xfrm>
            <a:off x="4962960" y="5989680"/>
            <a:ext cx="2632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22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第十届全国大学生数字媒体科技作品及创意竞赛组委会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文本框 6"/>
          <p:cNvSpPr/>
          <p:nvPr/>
        </p:nvSpPr>
        <p:spPr>
          <a:xfrm>
            <a:off x="5908320" y="6251400"/>
            <a:ext cx="767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零二二年十月</a:t>
            </a:r>
            <a:endParaRPr b="0" lang="en-US" sz="11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28T04:53:25Z</dcterms:created>
  <dc:creator>G K</dc:creator>
  <dc:description/>
  <dc:language>en-US</dc:language>
  <cp:lastModifiedBy>周扣娟</cp:lastModifiedBy>
  <dcterms:modified xsi:type="dcterms:W3CDTF">2022-10-20T06:49:27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26290AE2BBCB4BBE8443E39BA600F4FF</vt:lpwstr>
  </property>
  <property fmtid="{D5CDD505-2E9C-101B-9397-08002B2CF9AE}" pid="3" name="KSOProductBuildVer">
    <vt:lpwstr>2052-11.1.0.12598</vt:lpwstr>
  </property>
</Properties>
</file>