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6D1-38F1-44D5-A20A-A066FB40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E5C-A7BF-4A50-97B5-C5475DD7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8CD-AF48-41AA-9B5F-1E1D86BE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FC3-E694-4924-9414-C7EAB32F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020-7CFF-47AF-A0F5-D725C02C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81B-DA7D-4849-B608-9BB16BAE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F3D-E148-4B31-9E9D-EF5D3630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C33-06BB-4E0E-885F-DBC759F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DE7-CB9B-4C5A-8A41-7F53E0A6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A72-2C39-4475-A957-85AC8094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5FD-B470-40E2-8193-DE005DC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2B2-E8CE-4D80-9870-A14CEBFF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B412-7CD8-41AB-9248-CA698F3DCF18}" type="slidenum">
              <a:rPr b="0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0"/>
          <p:cNvSpPr/>
          <p:nvPr/>
        </p:nvSpPr>
        <p:spPr>
          <a:xfrm>
            <a:off x="409680" y="1141560"/>
            <a:ext cx="26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编号：</a:t>
            </a: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A1-01046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1560600" y="2230560"/>
            <a:ext cx="921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G XR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文旅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利用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G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跨媒体平台技术助力文旅产业革新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文本框 14"/>
          <p:cNvSpPr/>
          <p:nvPr/>
        </p:nvSpPr>
        <p:spPr>
          <a:xfrm>
            <a:off x="2557440" y="447516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林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康、王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宇、张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朱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、唐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522600" y="530208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赛学校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文本框 7"/>
          <p:cNvSpPr/>
          <p:nvPr/>
        </p:nvSpPr>
        <p:spPr>
          <a:xfrm>
            <a:off x="6461280" y="5300640"/>
            <a:ext cx="28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教师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*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438480" y="19224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文本框 15"/>
          <p:cNvSpPr/>
          <p:nvPr/>
        </p:nvSpPr>
        <p:spPr>
          <a:xfrm>
            <a:off x="2562840" y="32868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届全国大学生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媒体科技作品及创意竞赛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8" name="图片 10" descr=""/>
          <p:cNvPicPr/>
          <p:nvPr/>
        </p:nvPicPr>
        <p:blipFill>
          <a:blip r:embed="rId1"/>
          <a:stretch/>
        </p:blipFill>
        <p:spPr>
          <a:xfrm>
            <a:off x="1136520" y="6396120"/>
            <a:ext cx="360360" cy="34776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1"/>
          <p:cNvSpPr/>
          <p:nvPr/>
        </p:nvSpPr>
        <p:spPr>
          <a:xfrm>
            <a:off x="1482120" y="6381720"/>
            <a:ext cx="1898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仿宋"/>
                <a:ea typeface="仿宋"/>
              </a:rPr>
              <a:t>中 国 人 工 智 能 学 会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ese Association for Artificial Intelligence</a:t>
            </a:r>
            <a:endParaRPr b="0" lang="en-US" sz="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34080" y="64371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主办单位：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10"/>
          <p:cNvSpPr/>
          <p:nvPr/>
        </p:nvSpPr>
        <p:spPr>
          <a:xfrm>
            <a:off x="9531360" y="6283440"/>
            <a:ext cx="25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编号：</a:t>
            </a: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A1-01046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文本框 14"/>
          <p:cNvSpPr/>
          <p:nvPr/>
        </p:nvSpPr>
        <p:spPr>
          <a:xfrm>
            <a:off x="438480" y="19224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2562840" y="32868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届全国大学生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媒体科技作品及创意竞赛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4" name="图片 10" descr=""/>
          <p:cNvPicPr/>
          <p:nvPr/>
        </p:nvPicPr>
        <p:blipFill>
          <a:blip r:embed="rId1"/>
          <a:stretch/>
        </p:blipFill>
        <p:spPr>
          <a:xfrm>
            <a:off x="1136520" y="6396120"/>
            <a:ext cx="360360" cy="3477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1"/>
          <p:cNvSpPr/>
          <p:nvPr/>
        </p:nvSpPr>
        <p:spPr>
          <a:xfrm>
            <a:off x="1482120" y="6381720"/>
            <a:ext cx="1898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仿宋"/>
                <a:ea typeface="仿宋"/>
              </a:rPr>
              <a:t>中 国 人 工 智 能 学 会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ese Association for Artificial Intelligence</a:t>
            </a:r>
            <a:endParaRPr b="0" lang="en-US" sz="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文本框 8"/>
          <p:cNvSpPr/>
          <p:nvPr/>
        </p:nvSpPr>
        <p:spPr>
          <a:xfrm>
            <a:off x="334080" y="64371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主办单位：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8"/>
          <p:cNvSpPr/>
          <p:nvPr/>
        </p:nvSpPr>
        <p:spPr>
          <a:xfrm>
            <a:off x="4394160" y="2031840"/>
            <a:ext cx="355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 谢</a:t>
            </a:r>
            <a:endParaRPr b="0" lang="en-US" sz="9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5014080" y="5237280"/>
            <a:ext cx="231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竞赛官网：</a:t>
            </a:r>
            <a:r>
              <a:rPr b="1" lang="en-US" sz="1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mit.caai.cn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5871960" y="572760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人工智能学会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4962960" y="5989680"/>
            <a:ext cx="263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2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第十届全国大学生数字媒体科技作品及创意竞赛组委会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5908320" y="625140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二二年十月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8T04:53:25Z</dcterms:created>
  <dc:creator>G K</dc:creator>
  <dc:description/>
  <dc:language>en-US</dc:language>
  <cp:lastModifiedBy>周扣娟</cp:lastModifiedBy>
  <dcterms:modified xsi:type="dcterms:W3CDTF">2022-10-20T06:49:27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6290AE2BBCB4BBE8443E39BA600F4FF</vt:lpwstr>
  </property>
  <property fmtid="{D5CDD505-2E9C-101B-9397-08002B2CF9AE}" pid="3" name="KSOProductBuildVer">
    <vt:lpwstr>2052-11.1.0.12598</vt:lpwstr>
  </property>
</Properties>
</file>